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747F-976E-4770-A1C9-6767BDFC9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2A25-13DB-4EF2-B203-E238D5DB7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ECB4-B383-49D3-8DDC-271C6178D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A3C8-5068-43BD-897A-CDC3215AD7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A200-0887-4040-BF03-32FA81913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D880-C24C-4E1E-8AA0-9663A1DCD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3F96-EEAB-4A88-B073-4F210FC33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F89F-802F-4103-BE6C-24FEB45DF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E588-C629-41C8-87B8-79A25895D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231C-8F6D-4A03-A95A-B7E6EFF70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BF88-C1DA-4995-8964-DEBD071E8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004C-8046-4BA8-B512-319DB43A1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1A34-D55B-4018-977F-870427527E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experiences/mathexp2a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C6CB-B85D-4E36-B227-2113FF4D36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3</a:t>
            </a:r>
            <a:br>
              <a:rPr sz="4800"/>
            </a:b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upporting Students with</a:t>
            </a:r>
            <a:br>
              <a:rPr sz="4800"/>
            </a:b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Learning Disabilities in Mathematic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ldables 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EFAC-3D35-4731-A4FB-3439696D0C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28600" y="10666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take a walk around to see each other’s 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deas on types of foldables consi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eaching Mathematics with Foldables” by Dinah Z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93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Simulation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9F03-49AC-4216-80A7-5207116184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04DC-C40F-403A-859E-B50A52105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33520" y="83808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scalcu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 referring to a wide range of life-long learning disabilities involving math. There is no one single form of this math disability, but usually it incorporates one or more of following areas of difficul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patial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emory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38D7-4DA7-4B4B-8666-4DA2E1C36B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861160" cy="2666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3049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840" y="2057400"/>
            <a:ext cx="2793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19B-8906-4357-A84A-C4FE1735DA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86116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049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sual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5B17-5D0C-4ED6-9191-218E791CA7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90720"/>
            <a:ext cx="751824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240" y="9140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school / math department currently support students with LD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se students?  What courses are they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in your class with an LD.  Which of the cognitive processes is low for this student?  How does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7EAE-129C-4B65-B3E5-4877A34ED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BCC2-7F5D-4B19-9CA0-7B566B26A1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17204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0056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304920" y="41911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relate to your math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Activi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IPS activity and look at it through the lens of an LD student to suggest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9 applied-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0 applied-T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1 workplace-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1U/C-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2 advanced functions-Rational function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321-0820-47BE-B3B2-C419C6F362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1FC-2D20-4CD7-BA89-3B2F73F0FE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380880" y="2819520"/>
            <a:ext cx="3864240" cy="1681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04920" y="10666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groups, create a “foldable” to support students specific to your particular task. Consider the templates you have bee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6705720" y="152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7-11T05:43:49Z</dcterms:modified>
  <cp:revision>20</cp:revision>
  <dc:subject/>
  <dc:title>&lt;Title&gt;</dc:title>
</cp:coreProperties>
</file>